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7775575" cy="109077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8800" y="434880"/>
            <a:ext cx="6998040" cy="18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3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8800" y="2552400"/>
            <a:ext cx="699804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88800" y="5856840"/>
            <a:ext cx="699804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8800" y="434880"/>
            <a:ext cx="6998040" cy="18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3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8800" y="2552400"/>
            <a:ext cx="341496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974760" y="2552400"/>
            <a:ext cx="341496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8800" y="5856840"/>
            <a:ext cx="341496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3974760" y="5856840"/>
            <a:ext cx="341496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8800" y="434880"/>
            <a:ext cx="6998040" cy="18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3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8800" y="2552400"/>
            <a:ext cx="225324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755080" y="2552400"/>
            <a:ext cx="225324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121360" y="2552400"/>
            <a:ext cx="225324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388800" y="5856840"/>
            <a:ext cx="225324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2755080" y="5856840"/>
            <a:ext cx="225324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121360" y="5856840"/>
            <a:ext cx="225324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8800" y="434880"/>
            <a:ext cx="6998040" cy="18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3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388800" y="2552400"/>
            <a:ext cx="6998040" cy="63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8800" y="434880"/>
            <a:ext cx="6998040" cy="18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3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8800" y="2552400"/>
            <a:ext cx="6998040" cy="63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8800" y="434880"/>
            <a:ext cx="6998040" cy="18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3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8800" y="2552400"/>
            <a:ext cx="3414960" cy="63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974760" y="2552400"/>
            <a:ext cx="3414960" cy="63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8800" y="434880"/>
            <a:ext cx="6998040" cy="18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37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388800" y="434880"/>
            <a:ext cx="6998040" cy="84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8800" y="434880"/>
            <a:ext cx="6998040" cy="18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3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8800" y="2552400"/>
            <a:ext cx="341496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974760" y="2552400"/>
            <a:ext cx="3414960" cy="63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388800" y="5856840"/>
            <a:ext cx="341496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8800" y="434880"/>
            <a:ext cx="6998040" cy="18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3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388800" y="2552400"/>
            <a:ext cx="6998040" cy="63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8800" y="434880"/>
            <a:ext cx="6998040" cy="18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3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8800" y="2552400"/>
            <a:ext cx="3414960" cy="63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974760" y="2552400"/>
            <a:ext cx="341496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3974760" y="5856840"/>
            <a:ext cx="341496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8800" y="434880"/>
            <a:ext cx="6998040" cy="18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3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8800" y="2552400"/>
            <a:ext cx="341496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3974760" y="2552400"/>
            <a:ext cx="341496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88800" y="5856840"/>
            <a:ext cx="699804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8800" y="434880"/>
            <a:ext cx="6998040" cy="18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3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8800" y="2552400"/>
            <a:ext cx="699804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88800" y="5856840"/>
            <a:ext cx="699804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8800" y="434880"/>
            <a:ext cx="6998040" cy="18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3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8800" y="2552400"/>
            <a:ext cx="341496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974760" y="2552400"/>
            <a:ext cx="341496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8800" y="5856840"/>
            <a:ext cx="341496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3974760" y="5856840"/>
            <a:ext cx="341496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88800" y="434880"/>
            <a:ext cx="6998040" cy="18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3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88800" y="2552400"/>
            <a:ext cx="225324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2755080" y="2552400"/>
            <a:ext cx="225324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21360" y="2552400"/>
            <a:ext cx="225324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388800" y="5856840"/>
            <a:ext cx="225324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2755080" y="5856840"/>
            <a:ext cx="225324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121360" y="5856840"/>
            <a:ext cx="225324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88800" y="434880"/>
            <a:ext cx="6998040" cy="18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3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388800" y="2552400"/>
            <a:ext cx="6998040" cy="63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8800" y="434880"/>
            <a:ext cx="6998040" cy="18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3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88800" y="2552400"/>
            <a:ext cx="3414960" cy="63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3974760" y="2552400"/>
            <a:ext cx="3414960" cy="63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8800" y="434880"/>
            <a:ext cx="6998040" cy="18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37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388800" y="434880"/>
            <a:ext cx="6998040" cy="84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8800" y="434880"/>
            <a:ext cx="6998040" cy="18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3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8800" y="2552400"/>
            <a:ext cx="341496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3974760" y="2552400"/>
            <a:ext cx="3414960" cy="63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388800" y="5856840"/>
            <a:ext cx="341496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8800" y="434880"/>
            <a:ext cx="6998040" cy="18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3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8800" y="2552400"/>
            <a:ext cx="3414960" cy="63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974760" y="2552400"/>
            <a:ext cx="341496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974760" y="5856840"/>
            <a:ext cx="341496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8800" y="434880"/>
            <a:ext cx="6998040" cy="18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3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8800" y="2552400"/>
            <a:ext cx="341496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974760" y="2552400"/>
            <a:ext cx="341496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88800" y="5856840"/>
            <a:ext cx="699804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図 9" descr=""/>
          <p:cNvPicPr/>
          <p:nvPr/>
        </p:nvPicPr>
        <p:blipFill>
          <a:blip r:embed="rId2"/>
          <a:stretch/>
        </p:blipFill>
        <p:spPr>
          <a:xfrm>
            <a:off x="-4992840" y="-1876320"/>
            <a:ext cx="17692920" cy="15987600"/>
          </a:xfrm>
          <a:prstGeom prst="rect">
            <a:avLst/>
          </a:prstGeom>
          <a:ln w="0">
            <a:noFill/>
          </a:ln>
        </p:spPr>
      </p:pic>
      <p:pic>
        <p:nvPicPr>
          <p:cNvPr id="1" name="図 2" descr=""/>
          <p:cNvPicPr/>
          <p:nvPr/>
        </p:nvPicPr>
        <p:blipFill>
          <a:blip r:embed="rId3"/>
          <a:stretch/>
        </p:blipFill>
        <p:spPr>
          <a:xfrm>
            <a:off x="31680" y="1440"/>
            <a:ext cx="7713720" cy="1090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図 9" descr=""/>
          <p:cNvPicPr/>
          <p:nvPr/>
        </p:nvPicPr>
        <p:blipFill>
          <a:blip r:embed="rId2"/>
          <a:stretch/>
        </p:blipFill>
        <p:spPr>
          <a:xfrm>
            <a:off x="-4992840" y="-1876320"/>
            <a:ext cx="17692920" cy="15987600"/>
          </a:xfrm>
          <a:prstGeom prst="rect">
            <a:avLst/>
          </a:prstGeom>
          <a:ln w="0">
            <a:noFill/>
          </a:ln>
        </p:spPr>
      </p:pic>
      <p:pic>
        <p:nvPicPr>
          <p:cNvPr id="39" name="図 2" descr=""/>
          <p:cNvPicPr/>
          <p:nvPr/>
        </p:nvPicPr>
        <p:blipFill>
          <a:blip r:embed="rId3"/>
          <a:stretch/>
        </p:blipFill>
        <p:spPr>
          <a:xfrm>
            <a:off x="31680" y="1440"/>
            <a:ext cx="7713720" cy="10908000"/>
          </a:xfrm>
          <a:prstGeom prst="rect">
            <a:avLst/>
          </a:prstGeom>
          <a:ln w="0">
            <a:noFill/>
          </a:ln>
        </p:spPr>
      </p:pic>
      <p:pic>
        <p:nvPicPr>
          <p:cNvPr id="40" name="図 3" descr=""/>
          <p:cNvPicPr/>
          <p:nvPr/>
        </p:nvPicPr>
        <p:blipFill>
          <a:blip r:embed="rId4"/>
          <a:stretch/>
        </p:blipFill>
        <p:spPr>
          <a:xfrm>
            <a:off x="0" y="1440"/>
            <a:ext cx="7775640" cy="1090476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8800" y="434880"/>
            <a:ext cx="6998040" cy="18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88800" y="2552400"/>
            <a:ext cx="6998040" cy="63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3680" indent="-19368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582480" indent="-19368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971640" indent="-19368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3" marL="1360440" indent="-19368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4" marL="1747800" indent="-19368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5" marL="1747800" indent="-19368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6" marL="1747800" indent="-19368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テキスト ボックス 5"/>
          <p:cNvSpPr/>
          <p:nvPr/>
        </p:nvSpPr>
        <p:spPr>
          <a:xfrm>
            <a:off x="1050840" y="6837480"/>
            <a:ext cx="669456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12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■</a:t>
            </a:r>
            <a:r>
              <a:rPr b="0" lang="ja-JP" sz="10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〇〇〇〇</a:t>
            </a:r>
            <a:r>
              <a:rPr b="0" lang="en-US" sz="10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	</a:t>
            </a:r>
            <a:r>
              <a:rPr b="0" lang="ja-JP" sz="10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〇枚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12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■</a:t>
            </a:r>
            <a:r>
              <a:rPr b="0" lang="ja-JP" sz="10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〇〇〇〇</a:t>
            </a:r>
            <a:r>
              <a:rPr b="0" lang="en-US" sz="10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	</a:t>
            </a:r>
            <a:r>
              <a:rPr b="0" lang="ja-JP" sz="10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〇枚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12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■</a:t>
            </a:r>
            <a:r>
              <a:rPr b="0" lang="ja-JP" sz="10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〇〇〇〇</a:t>
            </a:r>
            <a:r>
              <a:rPr b="0" lang="en-US" sz="10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	</a:t>
            </a:r>
            <a:r>
              <a:rPr b="0" lang="ja-JP" sz="10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〇枚      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テキスト ボックス 12"/>
          <p:cNvSpPr/>
          <p:nvPr/>
        </p:nvSpPr>
        <p:spPr>
          <a:xfrm>
            <a:off x="31680" y="4362480"/>
            <a:ext cx="7713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○○○○</a:t>
            </a:r>
            <a:r>
              <a:rPr b="0" lang="ja-JP" sz="16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のご案内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テキスト ボックス 13"/>
          <p:cNvSpPr/>
          <p:nvPr/>
        </p:nvSpPr>
        <p:spPr>
          <a:xfrm>
            <a:off x="3568680" y="2927520"/>
            <a:ext cx="3171960" cy="10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株式会社○○○○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〒○○○</a:t>
            </a:r>
            <a:r>
              <a:rPr b="0" lang="en-US" sz="10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-</a:t>
            </a:r>
            <a:r>
              <a:rPr b="0" lang="ja-JP" sz="10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○○○○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東京都○○市○○丁目○○番地○○号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○○○○○○○○○○○○○○○○○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TEL</a:t>
            </a:r>
            <a:r>
              <a:rPr b="0" lang="ja-JP" sz="10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：○○○</a:t>
            </a:r>
            <a:r>
              <a:rPr b="0" lang="en-US" sz="10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-</a:t>
            </a:r>
            <a:r>
              <a:rPr b="0" lang="ja-JP" sz="10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○○○○</a:t>
            </a:r>
            <a:r>
              <a:rPr b="0" lang="en-US" sz="10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-</a:t>
            </a:r>
            <a:r>
              <a:rPr b="0" lang="ja-JP" sz="10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○○○○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FAX</a:t>
            </a:r>
            <a:r>
              <a:rPr b="0" lang="ja-JP" sz="10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：○○○</a:t>
            </a:r>
            <a:r>
              <a:rPr b="0" lang="en-US" sz="10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-</a:t>
            </a:r>
            <a:r>
              <a:rPr b="0" lang="ja-JP" sz="10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○○○○</a:t>
            </a:r>
            <a:r>
              <a:rPr b="0" lang="en-US" sz="10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-</a:t>
            </a:r>
            <a:r>
              <a:rPr b="0" lang="ja-JP" sz="10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○○○○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テキスト ボックス 15"/>
          <p:cNvSpPr/>
          <p:nvPr/>
        </p:nvSpPr>
        <p:spPr>
          <a:xfrm>
            <a:off x="3568680" y="1243080"/>
            <a:ext cx="317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○○</a:t>
            </a:r>
            <a:r>
              <a:rPr b="0" lang="ja-JP" sz="10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年○月吉日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図 16" descr=""/>
          <p:cNvPicPr/>
          <p:nvPr/>
        </p:nvPicPr>
        <p:blipFill>
          <a:blip r:embed="rId1"/>
          <a:stretch/>
        </p:blipFill>
        <p:spPr>
          <a:xfrm>
            <a:off x="4395960" y="1911240"/>
            <a:ext cx="226044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4-12-11T00:55:58Z</dcterms:created>
  <dc:creator>岡崎 美遊</dc:creator>
  <dc:description/>
  <dc:language>en-US</dc:language>
  <cp:lastModifiedBy>岡崎 美遊</cp:lastModifiedBy>
  <dcterms:modified xsi:type="dcterms:W3CDTF">2025-02-25T07:02:56Z</dcterms:modified>
  <cp:revision>31</cp:revision>
  <dc:subject/>
  <dc:title>PowerPoint プレゼンテーション</dc:title>
</cp:coreProperties>
</file>